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jetflyby2.wav" ContentType="audio/x-wav"/>
  <Override PartName="/ppt/media/bserie06.wav" ContentType="audio/x-wav"/>
  <Override PartName="/ppt/media/hzipup01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AB3-4A46-416F-8336-8ADD60F8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4F9-AD31-43BE-B248-984D109C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5CD-F007-4546-94D5-ACC7CB1A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A21-4C95-4BA2-BCBB-A7F81DEB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AFD-D82F-4A22-82A7-3C099D70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2AB-2431-4215-B104-D49B803E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F43-F405-499B-8733-BC24C635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A2A-4006-430E-9445-ACD043EC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756-BC3B-43C7-9DBF-B0728099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1CA-EFFD-42DF-8704-B7C914C4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0CF-136E-462B-AC3B-33F03D6B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1EB-BA2A-4895-9CD8-9C282EF5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1CA8-6A8F-4B65-9D12-0F1D773F5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 or Subtract Decima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3240" y="266868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6.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31880" y="410544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98800" y="4021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03480" y="3271680"/>
            <a:ext cx="15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.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55920" y="33051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4920" y="40244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47800" y="4027320"/>
            <a:ext cx="7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1920" y="4016520"/>
            <a:ext cx="72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70120" y="2092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1920" y="1193760"/>
            <a:ext cx="706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1.  16.25 + 8.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 or Subtract Decim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1920" y="1193760"/>
            <a:ext cx="706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2.  5.29 – 1.7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6100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.2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32120" y="404640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98880" y="3922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49320" y="326556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27360" y="3924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7080" y="3929040"/>
            <a:ext cx="8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49640" y="20415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46480" y="2881080"/>
            <a:ext cx="36180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9520" y="268452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 or Subtract Decima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6120" y="303372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0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55840" y="4470480"/>
            <a:ext cx="222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40280" y="4373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27440" y="3637080"/>
            <a:ext cx="19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0.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79520" y="36702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86040" y="43768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89280" y="4379760"/>
            <a:ext cx="7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73400" y="4368960"/>
            <a:ext cx="72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24200" y="30304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1920" y="1193760"/>
            <a:ext cx="706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3.  9 + 1.05 + 20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41776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.0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 or Subtract Decima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3240" y="266868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9.0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31880" y="410544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98800" y="4021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03480" y="3271680"/>
            <a:ext cx="15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55920" y="33051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44920" y="40244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47800" y="4027320"/>
            <a:ext cx="7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1920" y="4016520"/>
            <a:ext cx="72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70120" y="2092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1920" y="1193760"/>
            <a:ext cx="706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4.  39 + 2.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 or Subtract Decim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920" y="1193760"/>
            <a:ext cx="706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5.  67 – 6.9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26100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7.0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32120" y="404640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98880" y="3922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49320" y="326556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.9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27360" y="3924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97080" y="3929040"/>
            <a:ext cx="8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49640" y="20415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346480" y="2881080"/>
            <a:ext cx="36180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9520" y="268452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65520" y="20048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746440" y="2859120"/>
            <a:ext cx="419040" cy="433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63880" y="267660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7360" y="3935520"/>
            <a:ext cx="8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17, 5 – 3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14T17:54:17Z</dcterms:modified>
  <cp:revision>49</cp:revision>
  <dc:subject/>
  <dc:title>Slide 1</dc:title>
</cp:coreProperties>
</file>